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E2C-1B8E-46EF-9295-D3A7B6731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6DAF-81F1-4E3C-BA4A-AA220FC12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9C8-CBF2-4F6A-91A2-0484D806E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A6F7-D2B3-4614-AF13-6B10B5155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728E-7513-4374-A5C7-CB00F034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F9C-4487-4497-88F3-F85F6B97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AC228-B9D7-4902-8F46-FC11F06C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F262-77E9-41E6-AE78-9E261542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796-CA47-4692-8E93-C2F88676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487-A2CC-49A3-9CE2-24B166B0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A78D-BA45-4329-A7B6-672EB5F5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941-42A2-4636-BDDA-742D489D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14379-EA3C-4973-ADA0-DEDC617275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77240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Little Rock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Broadway BT"/>
              </a:rPr>
              <a:t>Then and 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little_rock_ark_1920"/>
          <p:cNvPicPr/>
          <p:nvPr/>
        </p:nvPicPr>
        <p:blipFill>
          <a:blip r:embed="rId1"/>
          <a:stretch/>
        </p:blipFill>
        <p:spPr>
          <a:xfrm>
            <a:off x="1143000" y="1752480"/>
            <a:ext cx="6562800" cy="4562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968760" y="11430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Little Rock in 19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Map"/>
          <p:cNvPicPr/>
          <p:nvPr/>
        </p:nvPicPr>
        <p:blipFill>
          <a:blip r:embed="rId1"/>
          <a:stretch/>
        </p:blipFill>
        <p:spPr>
          <a:xfrm>
            <a:off x="1600200" y="990720"/>
            <a:ext cx="5477040" cy="44766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6274440" y="5867280"/>
            <a:ext cx="19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Little Rock 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old-state-house"/>
          <p:cNvPicPr/>
          <p:nvPr/>
        </p:nvPicPr>
        <p:blipFill>
          <a:blip r:embed="rId1"/>
          <a:stretch/>
        </p:blipFill>
        <p:spPr>
          <a:xfrm>
            <a:off x="3657600" y="228600"/>
            <a:ext cx="4648320" cy="34815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Old State Capitol, Little Rock, Arkansas Historic Photo"/>
          <p:cNvPicPr/>
          <p:nvPr/>
        </p:nvPicPr>
        <p:blipFill>
          <a:blip r:embed="rId2"/>
          <a:stretch/>
        </p:blipFill>
        <p:spPr>
          <a:xfrm>
            <a:off x="4419720" y="4038480"/>
            <a:ext cx="4267080" cy="24433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Oberste%202_thumb"/>
          <p:cNvPicPr/>
          <p:nvPr/>
        </p:nvPicPr>
        <p:blipFill>
          <a:blip r:embed="rId3"/>
          <a:stretch/>
        </p:blipFill>
        <p:spPr>
          <a:xfrm>
            <a:off x="380880" y="3581280"/>
            <a:ext cx="3751560" cy="2286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749160" y="5791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8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7607160" y="648828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620280" y="13716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The Old State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253920" y="3581280"/>
            <a:ext cx="83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Main+Street+Little+Rock+Arkansas"/>
          <p:cNvPicPr/>
          <p:nvPr/>
        </p:nvPicPr>
        <p:blipFill>
          <a:blip r:embed="rId1"/>
          <a:stretch/>
        </p:blipFill>
        <p:spPr>
          <a:xfrm>
            <a:off x="0" y="0"/>
            <a:ext cx="5045040" cy="3276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Main Street: 1910"/>
          <p:cNvPicPr/>
          <p:nvPr/>
        </p:nvPicPr>
        <p:blipFill>
          <a:blip r:embed="rId2"/>
          <a:stretch/>
        </p:blipFill>
        <p:spPr>
          <a:xfrm>
            <a:off x="4419720" y="3129120"/>
            <a:ext cx="4352760" cy="3528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997920" y="43434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Main Stre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168880" y="228600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8"/>
          <p:cNvSpPr/>
          <p:nvPr/>
        </p:nvSpPr>
        <p:spPr>
          <a:xfrm>
            <a:off x="3568680" y="62485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roadway BT"/>
              </a:rPr>
              <a:t>19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9T22:15:10Z</dcterms:created>
  <dc:creator>admin</dc:creator>
  <dc:description/>
  <dc:language>en-US</dc:language>
  <cp:lastModifiedBy>admin</cp:lastModifiedBy>
  <dcterms:modified xsi:type="dcterms:W3CDTF">2015-06-23T19:41:00Z</dcterms:modified>
  <cp:revision>2</cp:revision>
  <dc:subject/>
  <dc:title>Little Rock Then and Now</dc:title>
</cp:coreProperties>
</file>